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3B9E-956E-4690-836E-F89FED6EDE3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/" TargetMode="External"/><Relationship Id="rId2" Type="http://schemas.openxmlformats.org/officeDocument/2006/relationships/hyperlink" Target="http://www.youtube.com/watch?v=wj8TGhcCnxs&amp;feature=related" TargetMode="External"/><Relationship Id="rId3" Type="http://schemas.openxmlformats.org/officeDocument/2006/relationships/slide" Target="../slides/slide1.xml"/><Relationship Id="rId4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Video: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Tahoma"/>
                <a:hlinkClick r:id="rId2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FE6B-21C6-4478-A2A2-850C1C6DB29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230D-714F-44BB-A867-26F72792353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301F-E2C6-49D9-B4A6-90223245B82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5793-7B25-4499-874D-81C7EC39B8C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C027-D99D-4A36-BD7F-41918AAC0B1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3493-5B9C-4D37-9DDE-869FD7CEDAC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5379-14BD-4E28-83C1-E32B7CC8C3D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CD36-E16C-4926-AB8E-CF3A44B7C50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DD2-DA89-4635-8937-D668245B83B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EF9A-2110-4609-993B-E02BE81F4EC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1CD0-CD79-4FCC-AF52-4637056056C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BC3-7441-416D-981C-2BB5EFC6CCB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DFD2-9F3E-4576-8BCF-89D52A852D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37EF-0CFD-4864-9EF9-D620D6EF7F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927-D2BD-4B01-9EC1-DEF2B64C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A7D-CE31-4D71-8F5D-63846B89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77B-9F19-44ED-91B9-3B4CBA54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E71-6E88-45AF-AD1A-F72C8F00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0A7-CABF-4367-AAFD-4DB06DCB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6F1-EF3F-4591-96D9-A61D53B5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8A5-3D6B-4F3B-ADD9-45985388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B19-8D94-4911-BE07-F859F851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714-F439-4594-964B-E4E25A1C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501-0A94-4617-AEEB-F5DE621B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A9C-A491-480C-9BEA-537013EC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95C-E31F-4540-99B2-136C4CF7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C873-75F3-4840-8F7C-D19E90B2F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lecules that absorb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hotosynthetic pigments are embedded in the thylakoid membra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colour of the pigment comes from the wavelength (λ) of light it refl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re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76640" y="3048120"/>
            <a:ext cx="3772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uresf04am/lect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in chlorophyll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ght energy to a higher potential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captured by molecul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photoexcitation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otochembgsu.com/students/ma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ergy from the Sun to synthesize complex organic molecules;  some exampl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“fix”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2-04-02T17:40:43Z</dcterms:modified>
  <cp:revision>74</cp:revision>
  <dc:subject/>
  <dc:title>Slide 1</dc:title>
</cp:coreProperties>
</file>